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77A-E2B0-4E9E-9979-1084D46D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559-3ECF-4DD0-856E-397146ED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892-2DB2-4CF5-B523-F94FD833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4EB-1058-4663-AAF1-4D698713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E2E-33EF-4342-AD25-76CDC16A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EDA-AEBF-4518-BFE8-1D14FA0B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ABA-85C3-4650-BAE8-C667126D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FA0-DD6F-4C55-912D-30DB917E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0B0-58CB-48F9-8F57-418DA7AE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24B-05B7-4FBF-B351-887B02C9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01B-AFC2-4A15-AC16-B583F404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6306-A8C3-4003-9CF1-E0BA2802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105000"/>
              <a:buFont typeface="Wingdings" charset="2"/>
              <a:buChar char="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7E8A-56E2-4284-9E8E-377462147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80880"/>
            <a:ext cx="739152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Децата в семейството</a:t>
            </a:r>
            <a:endParaRPr b="0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гато е възможно, оставете децата сами да разрешат спора си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 се научават да виждат различията си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учават се да разрешават конфликтите сами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порът изисква двама участника- няма невинен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10160" y="4638600"/>
            <a:ext cx="27338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Предложено от родителите забавление може да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тклони  децата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т спора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52880" y="3886200"/>
            <a:ext cx="37213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Прочетете им интересна история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71800" y="3962520"/>
            <a:ext cx="325584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251424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Осигурете им материали за моделиране.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337440" y="4286160"/>
            <a:ext cx="28065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Дайте им загадка за разрешаване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124080" y="3610080"/>
            <a:ext cx="27417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274284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ъперничеството между децата е нещо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обикновено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5880" y="2914560"/>
            <a:ext cx="24400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81240" y="1218960"/>
            <a:ext cx="9829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ъперничеството се проявяв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 различни форми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9880" y="3048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порен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плакван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разнене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биван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071880"/>
            <a:ext cx="20937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Всяко дете си съперничи с другите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сяко жадува за родителска любов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сяко желае вниманието на родителите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27640" y="2209680"/>
            <a:ext cx="291636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одителите трябва да се отнасят еднакво към всички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трапването на едно дете не намалява любовта към другит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 може едно дете да бъде винаги в центъра на вниманието ни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67640" y="4208400"/>
            <a:ext cx="23763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одителите трябва да се отнасят еднакво към всички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 трябва да се съобразяват с детската ревност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чинът, по който децата се отнасят помежду си в семейството, ще е начинът, по който те ще се отнасят с хората извън семействот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50240" y="3635280"/>
            <a:ext cx="209376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80880" y="1142640"/>
            <a:ext cx="9524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ак да се справим със съперничеството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авете децата на очна ставка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карайте ги да дадат писмено обяснение на своите различия.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варително им напомняйте, че трябва да се редуват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68960" y="4078440"/>
            <a:ext cx="207504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к да се справим със съперничеството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2004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ъздайте им подходяща работа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авете участниците в конфликта “под общ знаменател”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740640" y="3814920"/>
            <a:ext cx="24033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гато е възможно, оставете децата сами да разрешат спора си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6880" y="34290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749"/>
              </a:spcAft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месването на родителите  може да усложни нещата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749"/>
              </a:spcAft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ного е трудно да се определи виновният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657520"/>
            <a:ext cx="2367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4T08:54:17Z</dcterms:created>
  <dc:creator>Pacific Health</dc:creator>
  <dc:description/>
  <dc:language>en-US</dc:language>
  <cp:lastModifiedBy>Borislav Ortov</cp:lastModifiedBy>
  <dcterms:modified xsi:type="dcterms:W3CDTF">2005-04-16T21:51:29Z</dcterms:modified>
  <cp:revision>8</cp:revision>
  <dc:subject/>
  <dc:title>No Slide Title</dc:title>
</cp:coreProperties>
</file>